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DF7CA-315E-4D6D-97E4-555A983DE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1F100-50C6-4501-B14F-01D300C32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6BC62-64D9-48DF-8A0E-E6BE09FDB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39771-DF9E-4951-B4F0-41E24C13E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64464-0415-40EC-B4EF-37E5A9B1C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62F46-AEF5-4E37-AD75-7A12CD920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70C16-C14B-4D62-AA65-8FDF08785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FE606-F270-4C7E-A79C-FEA2B187D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36CDF-0F2E-41C6-860B-86D3BDDAA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661B9-3FF7-486E-9C08-C9BCEE374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4C1AF-043D-4678-B8DE-D086E2DCB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EF5A4-2C96-484D-9286-26DBDAD07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2D02A-99BB-40B2-A10B-111D4DDAD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A8159-29AF-423C-8EA1-07697C3A7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224A-6054-4CAD-9BC9-5E661AC08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98397-D5AF-4C63-BD19-E1196386B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7C6C6-A227-4395-AA07-DCF0362B5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0343-AA55-4733-BFBF-5EBB9F4D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B03DF-060F-4ECD-BA66-0B1C05879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B90CD-BE0A-4A27-B1EF-D6CCBD959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9BD4B-A1E1-47E9-A298-56AFE87F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C50C-E640-4413-951C-9A5EDFDFC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34232-07B6-4922-AB24-6AC12E4C9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2731F-8A2A-4F8B-8327-4B6C77F6D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0905-A09C-47BE-AE14-5F786EE1391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D0B3-DC9C-4C31-87B0-84A205CD881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dtdnews.wordpress.com/2008/01/14/imitacao-de-marcas-em-postos-de-combustiveis-confunde-consumidor/" TargetMode="External"/><Relationship Id="rId2" Type="http://schemas.openxmlformats.org/officeDocument/2006/relationships/hyperlink" Target="http://pt-br.wordpress.com/tag/noticias/" TargetMode="External"/><Relationship Id="rId3" Type="http://schemas.openxmlformats.org/officeDocument/2006/relationships/hyperlink" Target="http://pt-br.wordpress.com/tag/paulistania/"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denunciar.org.br/"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0033"/>
                </a:solidFill>
                <a:latin typeface="Times New Roman"/>
              </a:rPr>
              <a:t>Direito e Legislação em Informática</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ffer overflow</a:t>
            </a:r>
            <a:r>
              <a:rPr b="0" lang="es-ES" sz="2800" spc="-1" strike="noStrike">
                <a:solidFill>
                  <a:srgbClr val="000000"/>
                </a:solidFill>
                <a:latin typeface="Arial"/>
              </a:rPr>
              <a:t>: erro causado quando o programa tenta armazenar muitas informações na memória temporária, pode ser utilizado por infratores para executar códigos maliciosos;</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nial of Service</a:t>
            </a:r>
            <a:r>
              <a:rPr b="0" lang="es-ES" sz="2800" spc="-1" strike="noStrike">
                <a:solidFill>
                  <a:srgbClr val="000000"/>
                </a:solidFill>
                <a:latin typeface="Arial"/>
              </a:rPr>
              <a:t>: ataque a um computador ou rede que atenta contra o limite ou previne acesso para a Internet pelo excesso de pedidos ou e-mail causando sobrecarga do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que uma pericia digital tenha validade é preciso que as provas sejam coletadas de forma profissional e impessoal, sem deixar em hipótese alguma elementos subjetivos como por exemplo a opinião influenciar no parecer profissional que precisa ser neutra para ser efetiv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ma prova pericial mal feita acarreta a impossibilidade de ser utilizada como embazamento na tomada de decisões. Os vícios que ela contém podem anular todas as consequencias advindas dela, é a chamada “teoria da árvore dos frutos envenena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 teoria fala sobre o problema da prova legal obtida por derivação de uma prova ilegal, o que a torna ileg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ma precaução para uma perícia bem feita é respeitar todas as leis relacionadas ao caso em especial o direito a privacidade das pessoas envolv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omendações para que a pericia digital seja realizada com perfeição:</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ão ligar o computador se a máquina já estiver desligada;</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irar fotografias visíveis e de boa qualidade;</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mover todos os cabos existentes, inclusive os cabos de força;</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pturar todos os dados voláteis que achar necessár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inco regras para a evidência eletrônica:</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missibilidade – a perícia deve ter condições de ser utilizada em um process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tenticidade – deve ser certa e apresentar relevância para o cas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ta – deve ser clara e analisar todos os pontos relacionados para que não gere interpretações dúbia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ável – não apresentar dúvidas quanto a sua veracidade ou autenticidade;</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suir crédito – ser clara, de fácil entend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ma forma de trazer maior credibilidade para a pericia digital seria a utilização de Ata Notarial na primeira parte da perici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 relatório pericial deve ser dividido em três etapas distintas, a primeira deve conter a descrição das condições físicas do aparelho periciado; a segunda deve conter o relato das ferramentas técnicas utilizadas (programas, arquivos, sites, etc.); a terceira deve apresentar as conclusõe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Ata Notarial é um instrumento público no qual o tabelião ou pessoa autorizada por este, materializa fielmente de forma narrativa o estado dos fatos e coisas. Esta narrativa é feita sem expressar opinião, juízo de valor ou conclusã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990033"/>
                </a:solidFill>
                <a:uFillTx/>
                <a:latin typeface="Arial"/>
              </a:rPr>
              <a:t>www.guiatécnico.com.br/periciaforen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 transações eletrônicas tem origem nas instituições financeiras. A segurança que se espera das instituições financeiras é tão antiga quanto a própria existencia dos banc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segurança esperada das transações realizadas no ambiente virtual é a mesma que se espera das instituições rea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 custo destas transações no mundo real é cerca de duas vezes maior que as realizadas pelo telefone e até dez vezes maior que as realizadas no ambiente vir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s bancos são integralmente responsáveis por qualquer dano ao cliente enquanto ele estiver em seu espaço virtual.</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ta forma, caso o cliente opere em um site bancário e sofre um furto virtual, a reparação dos danos é de responsabilidade deste banco.</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sma responsabilidade possuem os sites de corretoras e bancos que permitem operações home broker, já que os usuários que interagem com o mercado financeiro por meio da internet são em geral, mas amadores que os participantes do mundo real. Assim as normas de seguranças fornecidas pela Comissão de Valores Mobiliários devem ser cuidadosamente observada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ome Broker – é o sistema pelo qual investidores, através de corretoras que possuem programa de computador específico que permite conexão ao sistema “Mega Bolsa” da Bolsa de Valores de São Paulo, negociam valores mobiliários através do envio direto de ordens de compra e venda de seus próprios computadores, sem a participação do operador (Eduardo, Patrícia Fischer de Paula. Internet e Mercado de Valores Mobiliários. In: Internet – O direito na era virt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 principais regras de conduta adotadas no Mercado Financeiro Real sã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bidade na condução das atividad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elo pela integridade do mercado, inclusive quanto à seleção de clientes e à exigência de depósitos de garanti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ligência no controle das posições dos clientes na custódia, com a rapidez em posições constantes em extratos e demonstrativos de movimentaçã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pacidade para desempenho das atividad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rigação de informar os clientes dos riscos das operações de mercad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segurar tratamento igualitário aos client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regar aos clientes em tempo hábil a documentação dos negócios realiza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ém destes pontos, as corretoras dev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ter registro de todas as movimentações financeiras de seus clientes em contas correntes não movimentáveis por chequ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dastrar seus clientes e manter os dados atualizados, junto às bolsas, câmaras de compensação e liquidação e às entidades prestadoras de serviços de escrituração e custódia, permitindo a perfeita identificação e qualificação de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principais princípios que devem ser seguidos pelos sites bancários e sites de corretoras sã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rigatoriedade de dar cursos de instrução para capacitação de investidores virtuai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parência na divulgação de informaçõe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vulgação clara do tempo que leva a operação virtual ser efetivamente concluída;</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tificação por escrito do cliente a respeito das regras da corretora sobre recebimento, registro, prazo de validade, prioridade de execução, distribuição e cancelamento das ordens virt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idência Digit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É toda a informação ou assunto de criação/intervenção humana ou não, que pode ser extraído de um computador ou de outro dispositivo eletrônico. A evidência de Digital deve estar no formato de entendimento humano” (Patricia Pinheiro Peck)</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efa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Representa os restos de uma atividade de ataque ou do incidente que pode ou não estar ligada, por exemplo, a um invasor de sistemas. Pode ser software usado pelo intruder(s), uma coleção das ferramentas, um código malicioso, registros, dispositivos de busca de vulnerabilidades etc.” (Patricia Peck Pinhe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riosidad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crocrédi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aiba mais sobre o projeto que deu a bengalês o Nobel da Paz</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BC</a:t>
            </a:r>
            <a:br>
              <a:rPr sz="1400"/>
            </a:br>
            <a:br>
              <a:rPr sz="1400"/>
            </a:br>
            <a:r>
              <a:rPr b="0" lang="es-ES" sz="1400" spc="-1" strike="noStrike">
                <a:solidFill>
                  <a:srgbClr val="000000"/>
                </a:solidFill>
                <a:latin typeface="Arial"/>
              </a:rPr>
              <a:t>O conceito por trás do microcrédito, que rendeu ao bengalês Muhammad Yunus o prêmio Nobel da Paz deste ano, é o de dar empréstimos para pessoas pobres em países em desenvolvimento. </a:t>
            </a:r>
            <a:br>
              <a:rPr sz="1400"/>
            </a:br>
            <a:br>
              <a:rPr sz="1400"/>
            </a:br>
            <a:r>
              <a:rPr b="0" lang="es-ES" sz="1400" spc="-1" strike="noStrike">
                <a:solidFill>
                  <a:srgbClr val="000000"/>
                </a:solidFill>
                <a:latin typeface="Arial"/>
              </a:rPr>
              <a:t>O valor desses empréstimos pode ser bem pequeno, a partir de cerca de R$ 100, mas eles oferecem a perspectiva ao beneficiado de ter o controle de suas decisões, além de estimular sua autoconfiança. </a:t>
            </a:r>
            <a:br>
              <a:rPr sz="1400"/>
            </a:br>
            <a:br>
              <a:rPr sz="1400"/>
            </a:br>
            <a:r>
              <a:rPr b="0" lang="es-ES" sz="1400" spc="-1" strike="noStrike">
                <a:solidFill>
                  <a:srgbClr val="000000"/>
                </a:solidFill>
                <a:latin typeface="Arial"/>
              </a:rPr>
              <a:t>Projetos do gênero tendem a beneficiar especialmente mulheres, dando-lhes mais autonomia sobre suas vidas e seus ganhos. </a:t>
            </a:r>
            <a:br>
              <a:rPr sz="1400"/>
            </a:br>
            <a:br>
              <a:rPr sz="1400"/>
            </a:br>
            <a:r>
              <a:rPr b="0" lang="es-ES" sz="1400" spc="-1" strike="noStrike">
                <a:solidFill>
                  <a:srgbClr val="000000"/>
                </a:solidFill>
                <a:latin typeface="Arial"/>
              </a:rPr>
              <a:t>O microcrédito contesta as noções mais comuns de assistência e a crença de que os ajustes estruturais da economia são a melhor maneira de se combater a pobreza. </a:t>
            </a:r>
            <a:br>
              <a:rPr sz="1400"/>
            </a:br>
            <a:br>
              <a:rPr sz="1400"/>
            </a:br>
            <a:r>
              <a:rPr b="0" lang="es-ES" sz="1400" spc="-1" strike="noStrike">
                <a:solidFill>
                  <a:srgbClr val="000000"/>
                </a:solidFill>
                <a:latin typeface="Arial"/>
              </a:rPr>
              <a:t>O conceito tem sido celebrado como uma "solução" para a pobreza, mas beneficia menos pessoas extremamente pobres ou que vivam em países que enfrentam uma difícil situação econômica.</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igens em Bangladesh</a:t>
            </a:r>
            <a:br>
              <a:rPr sz="1400"/>
            </a:br>
            <a:br>
              <a:rPr sz="1400"/>
            </a:br>
            <a:r>
              <a:rPr b="0" lang="es-ES" sz="1400" spc="-1" strike="noStrike">
                <a:solidFill>
                  <a:srgbClr val="000000"/>
                </a:solidFill>
                <a:latin typeface="Arial"/>
              </a:rPr>
              <a:t>O microcrédito surgiu em Bangladesh, onde Yunus criou um banco, o Grameen Bank ("Banco das Vilas"), em 1983, a partir de um projeto de pesquisa começado sete anos antes.</a:t>
            </a:r>
            <a:br>
              <a:rPr sz="1400"/>
            </a:br>
            <a:br>
              <a:rPr sz="1400"/>
            </a:br>
            <a:r>
              <a:rPr b="0" lang="es-ES" sz="1400" spc="-1" strike="noStrike">
                <a:solidFill>
                  <a:srgbClr val="000000"/>
                </a:solidFill>
                <a:latin typeface="Arial"/>
              </a:rPr>
              <a:t>Em 2006, o banco conta com cerca de 6,61 milhões de beneficiados pelos empréstimos e levava o serviço a mais de 70 mil localidades do país. Cerca de 97% dos credores são mulheres.</a:t>
            </a:r>
            <a:br>
              <a:rPr sz="1400"/>
            </a:br>
            <a:br>
              <a:rPr sz="1400"/>
            </a:br>
            <a:r>
              <a:rPr b="0" lang="es-ES" sz="1400" spc="-1" strike="noStrike">
                <a:solidFill>
                  <a:srgbClr val="000000"/>
                </a:solidFill>
                <a:latin typeface="Arial"/>
              </a:rPr>
              <a:t>Os usuários se juntam em grupos para pedir empréstimos no Grameen Bank, e as pessoas do mesmo grupo são incentivadas a acompanhar as solicitações umas das outras. Se uma das pessoas do grupo não paga, o empréstimo a todo o grupo é suspenso.</a:t>
            </a:r>
            <a:br>
              <a:rPr sz="1400"/>
            </a:br>
            <a:br>
              <a:rPr sz="1400"/>
            </a:br>
            <a:r>
              <a:rPr b="0" lang="es-ES" sz="1400" spc="-1" strike="noStrike">
                <a:solidFill>
                  <a:srgbClr val="000000"/>
                </a:solidFill>
                <a:latin typeface="Arial"/>
              </a:rPr>
              <a:t>O Grameen Bank não é uma instituição de caridade. Ele cobra juros e é muito rigoroso com pagamentos, para estimular a disciplina e a independência dos usuários.</a:t>
            </a:r>
            <a:br>
              <a:rPr sz="1400"/>
            </a:br>
            <a:br>
              <a:rPr sz="1400"/>
            </a:br>
            <a:r>
              <a:rPr b="0" lang="es-ES" sz="1400" spc="-1" strike="noStrike">
                <a:solidFill>
                  <a:srgbClr val="000000"/>
                </a:solidFill>
                <a:latin typeface="Arial"/>
              </a:rPr>
              <a:t>Estudos do Banco Mundial indicam que cerca de 50% das pessoas que emprestam dinheiro do Grameen Bank saem da linha de pobreza em até cinco anos, e outros 25% chegam à linha de pobreza.</a:t>
            </a:r>
            <a:br>
              <a:rPr sz="1400"/>
            </a:br>
            <a:br>
              <a:rPr sz="1400"/>
            </a:br>
            <a:r>
              <a:rPr b="0" lang="es-ES" sz="1400" spc="-1" strike="noStrike">
                <a:solidFill>
                  <a:srgbClr val="000000"/>
                </a:solidFill>
                <a:latin typeface="Arial"/>
              </a:rPr>
              <a:t>Um dos riscos apontados pelos críticos do programa é o de desvio de dinheiro dos programas de assistência básica, que ainda são necessários, especialmente para os que não podem contar com o microcrédito.</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rasil</a:t>
            </a:r>
            <a:br>
              <a:rPr sz="2000"/>
            </a:br>
            <a:br>
              <a:rPr sz="2000"/>
            </a:br>
            <a:r>
              <a:rPr b="0" lang="es-ES" sz="2000" spc="-1" strike="noStrike">
                <a:solidFill>
                  <a:srgbClr val="000000"/>
                </a:solidFill>
                <a:latin typeface="Arial"/>
              </a:rPr>
              <a:t>De acordo com dados do Fundo de Desenvolvimento de Capital das Nações Unidas (UNCDF), cerca de 230 mil pessoas se beneficiam do uso de financiamentos de microcrédito no Brasil.</a:t>
            </a:r>
            <a:br>
              <a:rPr sz="2000"/>
            </a:br>
            <a:br>
              <a:rPr sz="2000"/>
            </a:br>
            <a:r>
              <a:rPr b="0" lang="es-ES" sz="2000" spc="-1" strike="noStrike">
                <a:solidFill>
                  <a:srgbClr val="000000"/>
                </a:solidFill>
                <a:latin typeface="Arial"/>
              </a:rPr>
              <a:t>O Banco Interamericano de Desenvolvimento (BID) estima que pelo menos 8 milhões de pessoas poderiam ser elegíveis para empréstimos do gênero no país.</a:t>
            </a:r>
            <a:br>
              <a:rPr sz="2000"/>
            </a:br>
            <a:br>
              <a:rPr sz="2000"/>
            </a:br>
            <a:r>
              <a:rPr b="0" lang="es-ES" sz="2000" spc="-1" strike="noStrike">
                <a:solidFill>
                  <a:srgbClr val="000000"/>
                </a:solidFill>
                <a:latin typeface="Arial"/>
              </a:rPr>
              <a:t>O Banco Mundial também estima que cerca de 16 milhões de pessoas se beneficiem do sistema no mundo, por meio de várias instituições.</a:t>
            </a:r>
            <a:br>
              <a:rPr sz="2000"/>
            </a:br>
            <a:br>
              <a:rPr sz="2000"/>
            </a:br>
            <a:r>
              <a:rPr b="0" lang="es-ES" sz="2000" spc="-1" strike="noStrike">
                <a:solidFill>
                  <a:srgbClr val="000000"/>
                </a:solidFill>
                <a:latin typeface="Arial"/>
              </a:rPr>
              <a:t>http://www1.folha.uol.com.br/folha/bbc/ult272u57766.s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ducação Digita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lores Digitais não diferem dos valores familiares, profissionais e étic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dança somente do ambiente de exercíci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s os atos no ambiente virtual geram efeitos jurídic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4"/>
          <p:cNvSpPr/>
          <p:nvPr/>
        </p:nvSpPr>
        <p:spPr>
          <a:xfrm>
            <a:off x="-4320" y="6564240"/>
            <a:ext cx="214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os direitos reservad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olução do Direit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ndo a sociedade evolui as leis devem evoluir de forma a regulamentar a interação human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 Direito Digital é a evolução do próprio Direi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rge no Brasil nos anos 80 quando as primeiras redes internas são instaladas. Ex. Bancos Múltip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lor da Informaçã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a Nova Sociedade Digital o maior ativo é a </a:t>
            </a:r>
            <a:r>
              <a:rPr b="1" lang="es-ES" sz="2400" spc="-1" strike="noStrike">
                <a:solidFill>
                  <a:srgbClr val="990033"/>
                </a:solidFill>
                <a:latin typeface="Arial"/>
              </a:rPr>
              <a:t>Informação = Conhecimen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udo são prov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ância da perícia digital para avalizar a importância da prova inform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Crimes Eletrônicos</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icaçã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ndo o IP é verdadeiro é fácil identificar o autor do crime, mas em muitas situações é possível se utilizar de IP falso para a pratica de crimes o que torna difícil ou quase impossível a identificação do autor do crim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mes mais comu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crimes mais comuns na rede são o estelionato e a pedofil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principais facilitadores destas praticas são os e-mails gratuítos em que as contas ativas e inativas não são devidamente identificadas e seus dados não são comprov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Crimes Eletrônicos</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É responsabilidade do usuário a escolha das senhas, mas cabe aos provedores de acesso, sites e softwares que requeiram autenticação disponibilizar programas seguros e atualizados de criptograf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ibição dos crimes eletrônicos depende da denúncia das vítimas que em geral encontram policiais pouco preparados ou ausência de recursos técnologicos para realizar uma boa investig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 que são crimes no Ambiente Virtual?</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ágio</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rataria</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sédio Moral Digital</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indevido de imagens pessoais – Limites da Privacidade</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ude Eletrônica</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rus</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indevido da identidade virtual – Senhas de acesso</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zamento de informações comerciais ou industriais sigilosas</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rto de Dados</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lealdade Comercial</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indevido de marcas</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itoramente ilegal</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lar em uma comunidade virtual, e-mail, blog, chat, etc., que alguém cometeu um crime, quando sabe que não o fez.</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me de Calún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38, CP - Caluniar alguém, imputando-lhe falsamente fato definido como cr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seis meses a dois anos, e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a investigação de um crime virtual tem como base as evidências e informações coletad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ó que estas evidências e informações estão em um disco rígido, em um celular, em um código malicioso, nos códigos fontes, etc.</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mputação forense é matéria do direito criminal e visa a verdade real a fim de que os infratores sejam punidos e a sociedade preserv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para pessoa ofendendo suas características fisicas ou de personalida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me de Injú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40, CP - Injuriar alguém, ofendendo-lhe a dignidade ou o decor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a seis meses,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59" name="Picture 4" descr="Difamação"/>
          <p:cNvPicPr/>
          <p:nvPr/>
        </p:nvPicPr>
        <p:blipFill>
          <a:blip r:embed="rId1"/>
          <a:stretch/>
        </p:blipFill>
        <p:spPr>
          <a:xfrm>
            <a:off x="971640" y="1628640"/>
            <a:ext cx="7704000" cy="5104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alhar boato sobre determinada pessoa ou empresa através de e-mail (corrente), blog, site,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famaçã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39,CP - Difamar alguém, imputando-lhe fato ofensivo à sua reputaçã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três meses a um ano, e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64" name="Picture 4" descr="Marca"/>
          <p:cNvPicPr/>
          <p:nvPr/>
        </p:nvPicPr>
        <p:blipFill>
          <a:blip r:embed="rId1"/>
          <a:stretch/>
        </p:blipFill>
        <p:spPr>
          <a:xfrm>
            <a:off x="900000" y="1557360"/>
            <a:ext cx="7775640" cy="5151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por exemplo, ameaçando determinada pesso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meaç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47, CP - Ameaçar alguém, por palavra, escrito ou gesto, ou qualquer outro meio simbólico, de causar-lhe mal injusto e gr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a seis meses,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para qualquer pessoa com informação confidenc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olação de Segre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53, CP - Divulgar alguém, sem justa causa, conteúdo de documento particular ou de correspondência confidencial, de que é destinatário ou detentor, e cuja divulgação possa produzir dano a outr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a seis meses, ou mul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para concorrente direto ou qualquer outra pessoa com segredo profiss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olação de Segredo Profiss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54, CP - Revelar alguém, sem justa causa, segredo, de que tem ciência em razão de função, ministério, ofício ou profissão, e cuja revelação possa produzir dano a outr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três meses a um ano,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um virus que inutilize os dados armazenados ou o equipamento inteir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me de Da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63, CP - Destruir, inutilizar ou deteriorar coisa alhe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a seis meses,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4" name="PlaceHolder 2"/>
          <p:cNvSpPr>
            <a:spLocks noGrp="1"/>
          </p:cNvSpPr>
          <p:nvPr>
            <p:ph/>
          </p:nvPr>
        </p:nvSpPr>
        <p:spPr>
          <a:xfrm>
            <a:off x="914400" y="1600200"/>
            <a:ext cx="7772400" cy="4781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piar conteúdos da Internet ou fazer dowload de filmes, músicas, livros, etc., sem autorização do autor</a:t>
            </a:r>
            <a:endParaRPr b="0" lang="en-US" sz="20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Violação aos Direitos Autorai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rt. 184, CP - Violar direitos de autor e os que lhe são conexo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ena - detenção, de 3 (três) meses a 1 (um) ano, ou mult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1</a:t>
            </a:r>
            <a:r>
              <a:rPr b="0" lang="es-ES" sz="1300" spc="-1" strike="noStrike" u="sng">
                <a:solidFill>
                  <a:srgbClr val="000000"/>
                </a:solidFill>
                <a:uFillTx/>
                <a:latin typeface="Arial"/>
              </a:rPr>
              <a:t>o</a:t>
            </a:r>
            <a:r>
              <a:rPr b="0" lang="es-ES" sz="1300" spc="-1" strike="noStrike">
                <a:solidFill>
                  <a:srgbClr val="000000"/>
                </a:solidFill>
                <a:latin typeface="Arial"/>
              </a:rPr>
              <a:t> Se a violação consistir em reprodução total ou parcial, com intuito de lucro direto ou indireto, por qualquer meio ou processo, de obra intelectual, interpretação, execução ou fonograma, sem autorização expressa do autor, do artista intérprete ou executante, do produtor, conforme o caso, ou de quem os represente: Pena - reclusão, de 2 (dois) a 4 (quatro) anos, e mult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2</a:t>
            </a:r>
            <a:r>
              <a:rPr b="0" lang="es-ES" sz="1300" spc="-1" strike="noStrike" u="sng">
                <a:solidFill>
                  <a:srgbClr val="000000"/>
                </a:solidFill>
                <a:uFillTx/>
                <a:latin typeface="Arial"/>
              </a:rPr>
              <a:t>o</a:t>
            </a:r>
            <a:r>
              <a:rPr b="0" lang="es-ES" sz="1300" spc="-1" strike="noStrike">
                <a:solidFill>
                  <a:srgbClr val="000000"/>
                </a:solidFill>
                <a:latin typeface="Arial"/>
              </a:rPr>
              <a:t> Na mesma pena do § 1</a:t>
            </a:r>
            <a:r>
              <a:rPr b="0" lang="es-ES" sz="1300" spc="-1" strike="noStrike" u="sng">
                <a:solidFill>
                  <a:srgbClr val="000000"/>
                </a:solidFill>
                <a:uFillTx/>
                <a:latin typeface="Arial"/>
              </a:rPr>
              <a:t>o</a:t>
            </a:r>
            <a:r>
              <a:rPr b="0" lang="es-ES" sz="1300" spc="-1" strike="noStrike">
                <a:solidFill>
                  <a:srgbClr val="000000"/>
                </a:solidFill>
                <a:latin typeface="Arial"/>
              </a:rPr>
              <a:t> incorre quem, com o intuito de lucro direto ou indireto, distribui, vende, expõe à venda, aluga, introduz no País, adquire, oculta, tem em depósito, original ou cópia de obra intelectual ou fonograma reproduzido com violação do direito de autor, do direito de artista intérprete ou executante ou do direito do produtor de fonograma, ou, ainda, aluga original ou cópia de obra intelectual ou fonograma, sem a expressa autorização dos titulares dos direitos ou de quem os represent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3</a:t>
            </a:r>
            <a:r>
              <a:rPr b="0" lang="es-ES" sz="1300" spc="-1" strike="noStrike" u="sng">
                <a:solidFill>
                  <a:srgbClr val="000000"/>
                </a:solidFill>
                <a:uFillTx/>
                <a:latin typeface="Arial"/>
              </a:rPr>
              <a:t>o</a:t>
            </a:r>
            <a:r>
              <a:rPr b="0" lang="es-ES" sz="1300" spc="-1" strike="noStrike">
                <a:solidFill>
                  <a:srgbClr val="000000"/>
                </a:solidFill>
                <a:latin typeface="Arial"/>
              </a:rPr>
              <a:t> Se a violação consistir no oferecimento ao público, mediante cabo, fibra ótica, satélite, ondas ou qualquer outro sistema que permita ao usuário realizar a seleção da obra ou produção para recebê-la em um tempo e lugar previamente determinados por quem formula a demanda, com intuito de lucro, direto ou indireto, sem autorização expressa, conforme o caso, do autor, do artista intérprete ou executante, do produtor de fonograma, ou de quem os represen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ena - reclusão, de 2 (dois) a 4 (quatro) anos, e multa.</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4</a:t>
            </a:r>
            <a:r>
              <a:rPr b="0" lang="es-ES" sz="1300" spc="-1" strike="noStrike" u="sng">
                <a:solidFill>
                  <a:srgbClr val="000000"/>
                </a:solidFill>
                <a:uFillTx/>
                <a:latin typeface="Arial"/>
              </a:rPr>
              <a:t>o</a:t>
            </a:r>
            <a:r>
              <a:rPr b="0" lang="es-ES" sz="1300" spc="-1" strike="noStrike">
                <a:solidFill>
                  <a:srgbClr val="000000"/>
                </a:solidFill>
                <a:latin typeface="Arial"/>
              </a:rPr>
              <a:t> O disposto nos §§ 1</a:t>
            </a:r>
            <a:r>
              <a:rPr b="0" lang="es-ES" sz="1300" spc="-1" strike="noStrike" u="sng">
                <a:solidFill>
                  <a:srgbClr val="000000"/>
                </a:solidFill>
                <a:uFillTx/>
                <a:latin typeface="Arial"/>
              </a:rPr>
              <a:t>o</a:t>
            </a:r>
            <a:r>
              <a:rPr b="0" lang="es-ES" sz="1300" spc="-1" strike="noStrike">
                <a:solidFill>
                  <a:srgbClr val="000000"/>
                </a:solidFill>
                <a:latin typeface="Arial"/>
              </a:rPr>
              <a:t>, 2</a:t>
            </a:r>
            <a:r>
              <a:rPr b="0" lang="es-ES" sz="1300" spc="-1" strike="noStrike" u="sng">
                <a:solidFill>
                  <a:srgbClr val="000000"/>
                </a:solidFill>
                <a:uFillTx/>
                <a:latin typeface="Arial"/>
              </a:rPr>
              <a:t>o</a:t>
            </a:r>
            <a:r>
              <a:rPr b="0" lang="es-ES" sz="1300" spc="-1" strike="noStrike">
                <a:solidFill>
                  <a:srgbClr val="000000"/>
                </a:solidFill>
                <a:latin typeface="Arial"/>
              </a:rPr>
              <a:t> e 3</a:t>
            </a:r>
            <a:r>
              <a:rPr b="0" lang="es-ES" sz="1300" spc="-1" strike="noStrike" u="sng">
                <a:solidFill>
                  <a:srgbClr val="000000"/>
                </a:solidFill>
                <a:uFillTx/>
                <a:latin typeface="Arial"/>
              </a:rPr>
              <a:t>o</a:t>
            </a:r>
            <a:r>
              <a:rPr b="0" lang="es-ES" sz="1300" spc="-1" strike="noStrike">
                <a:solidFill>
                  <a:srgbClr val="000000"/>
                </a:solidFill>
                <a:latin typeface="Arial"/>
              </a:rPr>
              <a:t> não se aplica quando se tratar de exceção ou limitação ao direito de autor ou os que lhe são conexos, em conformidade com o previsto na Lei nº 9.610, de 19 de fevereiro de 1998, nem a cópia de obra intelectual ou fonograma, em um só exemplar, para uso privado do copista, sem intuito de lucro direto ou indire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ar ou participar de comunidade online que fale de pessoas ou religiõ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ltraje a culto e impedimento ou perturbação de ato a ele relativ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208, CP - Escarnecer de alguém publicamente, por motivo de crença ou função religiosa; impedir ou perturbar cerimônia ou prática de culto religioso; vilipendiar publicamente ato ou objeto de culto religios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mês a um ano,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uma pericia digital capaz de ser utilizada como prova em um processo ou servir como base na tomada de decisões é necessário que ela responda a seis questionamento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m?</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 quê?</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nd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nde?</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essar sites, comunidades, blogs que contenham conteúdos pornográfic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vorecimento à prostituiçã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228, CP - Induzir ou atrair alguém à prostituição, facilitá-la ou impedir que alguém a aband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na - reclusão, de dois a cinco an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1º - Se ocorre qualquer das hipóteses do § 1º do artigo anteri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na - reclusão, de três a oito an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2º - Se o crime, é cometido com emprego de violência, grave ameaça ou fra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na - reclusão, de quatro a dez anos, além da pena correspondente à violênc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3º - Se o crime é cometido com o fim de lucro, aplica-se também mu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ar comunidade que ensine como cometer um crime (como obter chaves de aces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ologia de crime ou crimino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287, CP - Fazer, publicamente, apologia de fato criminoso ou de autor de cr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três a seis meses, ou mul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83" name="Picture 4" descr="Apologia ao Crime"/>
          <p:cNvPicPr/>
          <p:nvPr/>
        </p:nvPicPr>
        <p:blipFill>
          <a:blip r:embed="rId1"/>
          <a:stretch/>
        </p:blipFill>
        <p:spPr>
          <a:xfrm>
            <a:off x="900000" y="1557360"/>
            <a:ext cx="7775640" cy="5151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ou mensagem com uso de falsa identidade (sp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sa identida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307, CP - Atribuir-se ou atribuir a terceiro falsa identidade para obter vantagem, em proveito próprio ou alheio, ou para causar dano a outr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três meses a um ano, ou multa, se o fato não constitui elemento de crime mais gr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zer cadastro com dados falsos em loja virtual ou site de relacioname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erção de dados falsos em sistema de informaçõ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313-A, CP. Inserir ou facilitar, o funcionário autorizado, a inserção de dados falsos, alterar ou excluir indevidamente dados corretos nos sistemas informatizados ou bancos de dados da Administração Pública com o fim de obter vantagem indevida para si ou para outrem ou para causar da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reclusão, de 2 (dois) a 12 (doze) anos, e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adir sistema e modificar os dados, mesmo que com o uso de software específic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ificação ou alteração não autorizada de sistema de informaçõ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313-B, CP. Modificar ou alterar, o funcionário, sistema de informações ou programa de informática sem autorização ou solicitação de autoridade compet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na - detenção, de 3 (três) meses a 2 (dois) anos, e mul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ágrafo único. As penas são aumentadas de um terço até a metade se da modificação ou alteração resulta dano para a Administração Pública ou para o administr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nir a pessoa que te enviou um spam com o envio de outro spam ou víru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rcício arbitrário das próprias razõ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345, CP - Fazer justiça pelas próprias mãos, para satisfazer pretensão, embora legítima, salvo quando a lei o permi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quinze dias a um mês, ou multa, além da pena correspondente à violên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ágrafo único - Se não há emprego de violência, somente se procede mediante queix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ticipar de cassino ou qualquer outro jogo de apostas online</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Jogo de Az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rt. 50, LCP - Estabelecer ou explorar jogo de azar em lugar público ou acessível ao público, mediante o pagamento de entrada ou sem el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ena - Prisão simples, de 3 (três) meses a 1 (um) ano, e multa, estendendo-se os efeitos da condenação à perda dos móveis e objetos de decoração do local.</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1º - A pena é aumentada de um terço, se existe entre os empregados ou participa do jogo pessoa menor de 18 (dezoito) ano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2º - Incorre na pena de multa, quem é encontrado a participar do jogo, como ponteiro ou apostado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3º - Consideram-se jogos de az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o jogo em que o ganho e a perda dependem exclusiva ou principalmente da sor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 as apostas sobre corrida de cavalos fora de hipódromo ou de local onde sejam autorizada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 as apostas sobre qualquer outra competição esportiva.</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4º - Equiparam-se, para os efeitos penais, a lugar acessível ao público:</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a casa particular em que se realizam jogos de azar, quando deles habitualmente participam pessoas que não sejam da família de quem a ocupa;</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 o hotel ou casa de habitação coletiva, a cujos hóspedes e moradores se proporciona jogo de az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 a sede ou dependência de sociedade ou associação, em que se realiza jogo de az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 o estabelecimento destinado à exploração de jogo de azar, ainda que se dissimule esse destin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96" name="Picture 4" descr="Jogos"/>
          <p:cNvPicPr/>
          <p:nvPr/>
        </p:nvPicPr>
        <p:blipFill>
          <a:blip r:embed="rId1"/>
          <a:stretch/>
        </p:blipFill>
        <p:spPr>
          <a:xfrm>
            <a:off x="900000" y="1628640"/>
            <a:ext cx="7775640" cy="5151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9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merecer pessoas em razão de sua raça, cor ou etn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 20, Lei 7.716/89. Praticar, induzir ou incitar a discriminação ou preconceito de raça, cor, etnia, religião ou procedência nacion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reclusão de um a três anos e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1º Fabricar, comercializar, distribuir ou veicular símbolos, emblemas, ornamentos, distintivos ou propaganda que utilizem a cruz suástica ou gamada, para fins de divulgação do nazism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reclusão de dois a cinco anos e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2º Se qualquer dos crimes previstos no caput é cometido por intermédio dos meios de comunicação social ou publicação de qualquer naturez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reclusão de dois a cinco anos e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3º No caso do parágrafo anterior, o juiz poderá determinar, ouvido o Ministério Público ou a pedido deste, ainda antes do inquérito policial, sob pena de desobediênci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 - o recolhimento imediato ou a busca e apreensão dos exemplares do material respectiv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I - a cessação das respectivas transmissões radiofônicas ou televisiv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4º Na hipótese do § 2º, constitui efeito da condenação, após o trânsito em julgado da decisão, a destruição do material apreendi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sim, a pericia digital é a extração de vestígios relacionados com o caso.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stíg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lquer marca, fato, sinal ou material que é detectado em local onde haja sido praticado um fato delituos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í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ircunstância conhecida e provada, que, tendo relação com o fato, autorize, por indução, concluir-se a existência de outra ou outras circunstâncias, conforme art. 239 do Código de Processo Pe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201" name="Picture 4" descr="Bush"/>
          <p:cNvPicPr/>
          <p:nvPr/>
        </p:nvPicPr>
        <p:blipFill>
          <a:blip r:embed="rId1"/>
          <a:stretch/>
        </p:blipFill>
        <p:spPr>
          <a:xfrm>
            <a:off x="900000" y="1557360"/>
            <a:ext cx="7848720" cy="5102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 ou enviar fotos de crianças nuas ou semi-nuas onl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247, ECA - Divulgar, total ou parcialmente, sem autorização devida, por qualquer meio de comunicação, nome, ato ou documento de procedimento policial, administrativo ou judicial relativo a criança ou adolescente a que se atribua ato infracio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na - multa de três a vinte salários de referência, aplicando-se o dobro em caso de reincidên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1º Incorre na mesma pena quem exibe, total ou parcialmente, fotografia de criança ou adolescente envolvido em ato infracional, ou qualquer ilustração que lhe diga respeito ou se refira a atos que lhe sejam atribuídos, de forma a permitir sua identificação, direta ou indiretam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2º Se o fato for praticado por órgão de imprensa ou emissora de rádio ou televisão, além da pena prevista neste artigo, a autoridade judiciária poderá determinar a apreensão da publicação ou a suspensão da programação da emissora até por dois dias, bem como da publicação do periódico até por dois núme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ar indevidamente a logomarca de determinada empresa em site, comunidade, etc.</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corrência Desleal</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 195. Comete crime de concorrência desleal qu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 - publica, por qualquer meio, falsa afirmação, em detrimento de concorrente, com o fim de obter vantag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 presta ou divulga, acerca de concorrente, falsa informação, com o fim de obter vantag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I - emprega meio fraudulento, para desviar, em proveito próprio ou alheio, clientela de outr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V - usa expressão ou sinal de propaganda alheios, ou os imita, de modo a criar confusão entre os produtos ou estabelecimentos;</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 - usa, indevidamente, nome comercial, título de estabelecimento ou insígnia alheios ou vende, expõe ou oferece à venda ou tem em estoque produto com essas referências;</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 - substitui, pelo seu próprio nome ou razão social, em produto de outrem, o nome ou razão social deste, sem o seu consentimento;</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I - atribui-se, como meio de propaganda, recompensa ou distinção que não obteve;</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II - vende ou expõe ou oferece à venda, em recipiente ou invólucro de outrem, produto adulterado ou falsificado, ou dele se utiliza para negociar com produto da mesma espécie, embora não adulterado ou falsificado, se o fato não constitui crime mais grave;</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X - dá ou promete dinheiro ou outra utilidade a empregado de concorrente, para que o empregado, faltando ao dever do emprego, lhe proporcione vantag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 - recebe dinheiro ou outra utilidade, ou aceita promessa de paga ou recompensa, para, faltando ao dever de empregado, proporcionar vantagem a concorrente do empregador;</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I - divulga, explora ou utiliza-se, sem autorização, de conhecimentos, informações ou dados confidenciais, utilizáveis na indústria, comércio ou prestação de serviços, excluídos aqueles que sejam de conhecimento público ou que sejam evidentes para um técnico no assunto, a que teve acesso mediante relação contratual ou empregatícia, mesmo após o término do contrato;</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II - divulga, explora ou utiliza-se, sem autorização, de conhecimentos ou informações a que se refere o inciso anterior, obtidos por meios ilícitos ou a que teve acesso mediante fraude; ou</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III - vende, expõe ou oferece à venda produto, declarando ser objeto de patente depositada, ou concedida, ou de desenho industrial registrado, que não o seja, ou menciona-o, em anúncio ou papel comercial, como depositado ou patenteado, ou registrado, sem o ser;</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IV - divulga, explora ou utiliza-se, sem autorização, de resultados de testes ou outros dados não divulgados, cuja elaboração envolva esforço considerável e que tenham sido apresentados a entidades governamentais como condição para aprovar a comercialização de produtos.</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na - detenção, de 3 (três) meses a 1 (um) ano, ou multa.</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1º Inclui-se nas hipóteses a que se referem os incisos XI e XII o empregador, sócio ou administrador da empresa, que incorrer nas tipificações estabelecidas nos mencionados dispositivos.</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2º O disposto no inciso XIV não se aplica quanto à divulgação por órgão governamental competente para autorizar a comercialização de produto, quando necessário para proteger o públic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sa de meio fraudulento para ganhar a clientela do concorr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orrência Desle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95, Lei 927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fontScale="90000"/>
          </a:bodyPr>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990033"/>
                </a:solidFill>
                <a:uFillTx/>
                <a:latin typeface="Arial"/>
                <a:hlinkClick r:id="rId1"/>
              </a:rPr>
              <a:t>Imitação de marcas em postos de combustíveis confunde consumidor</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stado no 14 Janeiro 2008 por Felipe Cruz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Rede 13R tem cinco postos em São Paulo que imitam o logotipo e as cores da BR Distribuidora e confundem consumidores.</a:t>
            </a:r>
            <a:r>
              <a:rPr b="0" lang="es-E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ém da sonegação e adulterações, o mercado de combustíveis agora também tem de enfrentar outra forma de concorrência desleal: a imitação da marca com o objetivo de confundir o consumidor. Em São Paulo, a rede de postos 13R imita marca, cores, bombas e toda a programação dos postos BR, tornando difícil a identificação da fraude.</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imitação de cores e simulação de marcas para parecer com uma rede mais conhecida de postos não é novidade no mercado de combustíveis, mas o gerente-executivo da BR, Edimário Machado, ressalta que o caso da 13R foi o mais “chocante” pela sofisticação da imitação. Segundo ele, a BR tem 177 processos para retirada da marca da empresa de postos ou recolhimento de equipamentos e bombas de abastecimento.</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s processos são por três principais motivos: o primeiro é o caso de postos que abandonaram os contratos com a BR Distribuidora, mas mantiveram os equipamentos e a marca da empresa. O segundo caso é de postos que simulam as cores para confundir o consumidor e, o terceiro, a imitação da marca.</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chado conta que além da marca, a rede de postos 13R imita o programa de controla da qualidade de combustíveis da BR Distribuidora, o “De Olho no Combustível”. Segundo o gerente, a rede 13R tem cinco postos imitando a marca BR na capital Paulista.</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BR já notificou a empresa, mas o gerente explicou que ainda não iniciou processo na Justiça contra a rede de postos por causa dos procedimentos legais que estabelem um prazo para a empresa responder à notificação. Os representantes da empresa não foram localizados pelo Globo Online.</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vice-presidente do Sindicato Nacional das Empresas Distribuidoras de Combustíveis e Lubrificantes (Sindicom), Alísio Vaz, disse que todas as empresas do Sindicom têm problemas semelhantes. Segundo ele, o mais comum são os postos apagam a marca da distribuidora, mas continuam usando as mesmas cores e apresentação.</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s postos que ostentam a marcas das distribuidoras só podem comprar combustíveis nessas empresas. Já os chamados postos de bandeira branca (que não possuem marca de distribuidora alguma) podem comprar combustíveis de qualquer distribuidora desde que mostrem em lugar visível o nome da empresa que forneceu os produtos.</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rquivado em: </a:t>
            </a:r>
            <a:r>
              <a:rPr b="0" lang="es-ES" sz="900" spc="-1" strike="noStrike" u="sng">
                <a:solidFill>
                  <a:srgbClr val="990033"/>
                </a:solidFill>
                <a:uFillTx/>
                <a:latin typeface="Arial"/>
                <a:hlinkClick r:id="rId2"/>
              </a:rPr>
              <a:t>Notícias</a:t>
            </a:r>
            <a:r>
              <a:rPr b="0" lang="es-ES" sz="900" spc="-1" strike="noStrike">
                <a:solidFill>
                  <a:srgbClr val="000000"/>
                </a:solidFill>
                <a:latin typeface="Arial"/>
              </a:rPr>
              <a:t>, </a:t>
            </a:r>
            <a:r>
              <a:rPr b="0" lang="es-ES" sz="900" spc="-1" strike="noStrike" u="sng">
                <a:solidFill>
                  <a:srgbClr val="990033"/>
                </a:solidFill>
                <a:uFillTx/>
                <a:latin typeface="Arial"/>
                <a:hlinkClick r:id="rId3"/>
              </a:rPr>
              <a:t>Paulistânia</a:t>
            </a:r>
            <a:r>
              <a:rPr b="0" lang="es-ES" sz="900" spc="-1" strike="noStrike">
                <a:solidFill>
                  <a:srgbClr val="000000"/>
                </a:solidFill>
                <a:latin typeface="Arial"/>
              </a:rPr>
              <a:t> </a:t>
            </a:r>
            <a:endParaRPr b="0" lang="en-US" sz="900" spc="-1" strike="noStrike">
              <a:solidFill>
                <a:srgbClr val="000000"/>
              </a:solidFill>
              <a:latin typeface="Arial"/>
            </a:endParaRPr>
          </a:p>
        </p:txBody>
      </p:sp>
      <p:pic>
        <p:nvPicPr>
          <p:cNvPr id="210" name="Picture 4" descr="posto13b"/>
          <p:cNvPicPr/>
          <p:nvPr/>
        </p:nvPicPr>
        <p:blipFill>
          <a:blip r:embed="rId4"/>
          <a:stretch/>
        </p:blipFill>
        <p:spPr>
          <a:xfrm>
            <a:off x="3276720" y="1916280"/>
            <a:ext cx="2381040" cy="1838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sar cópia de software sem ter a licença fornecida pelo detentor dos direitos autora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 12, Lei 9.609/98 - Violar direitos de autor de programa de computad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 Detenção de seis meses a dois anos ou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1º Se a violação consistir na reprodução, por qualquer meio, de programa de computador, no todo ou em parte, para fins de comércio, sem autorização expressa do autor ou de quem o represen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 Reclusão de um a quatro anos e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2º Na mesma pena do parágrafo anterior incorre quem vende, expõe à venda, introduz no País, adquire, oculta ou tem em depósito, para fins de comércio, original ou cópia de programa de computador, produzido com violação de direito autor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3º Nos crimes previstos neste artigo, somente se procede mediante queixa, salv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 - quando praticados em prejuízo de entidade de direito público, autarquia, empresa pública, sociedade de economia mista ou fundação instituída pelo poder públic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I - quando, em decorrência de ato delituoso, resultar sonegação fiscal, perda de arrecadação tributária ou prática de quaisquer dos crimes contra a ordem tributária ou contra as relações de consum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4º No caso do inciso II do parágrafo anterior, a exigibilidade do tributo, ou contribuição social e qualquer acessório, processar-se-á independentemente de representaçã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ei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fraude eletrônica consiste em uma mensagem não solicitada que se passa por comunicação de uma instituição conhecida, como um banco, empresa ou site popular, e procura induzir usuários ao fornecimento de dados pessoais e financeiros (CERT-BR – Centro de Estudos, Respostas e Tratamento de Incidentes de Segurança no Brasi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tipo de mensagem induzia o usuário ao acesso de páginas fraudulentas, hoje se refere à mensagem que induz o usuário à instalação de códigos maliciosos, além de mensagens que apresentam em seu conteúdo formulários para o preenchimento e envio de dados pessoais e financei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Brasil durante o ano de 2008 foram reportadas ao CERT-BR cerca de 222.528 fraudes e no primeiro trimestre de 2009 já foram reportadas 218.074 fraude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fraude ocorre da seguinte form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m código malicioso é enviado por e-mail para as vítima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 quais, não analisando a veracidade do conteúdo nem o remetente da mensagem, acessam a informação, executam o arquivo e, consequentement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 computador do usuário é infectad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ometendo suas informações confidenciais, tais como senhas, dados pessoais, etc.</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sas informações serão transmitidas para o fraudador,</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as utiliza para acessar, por exempl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 Internet Banking da vítima e desviar dinheiro para outra con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mas das fraudes eletrônicas podem ser enquadradas como estelionato, extorsão, falsidade ideológica, fraude, sendo aplicável o Código Pe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 principal problema para enquadrar os crimes eletrônicos como crimes reais é com relação aos meios empregados por estes novos crim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 Furto de dados de uma empresa. Em tese poderia ser tipificado como crime de furto, portanto sujeito ao art. 155 do Código Penal que prevê o seguin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55. Subtrair, para si ou para outrem, coisa alheia mó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ntanto, se o criminoso simplesmente copiar os dados sem apagá-los como poderia ser tipificado como furto, já que os dados não sairam da propriedade de seu proprietário ou criad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solução seria aplicar a situação o crime de dano, que apresenta punição bem mais branda que o crime de fur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O grande número de fraudes eletrônicas se deve a falta de informações dos usuários e a falta de conhecimento técnico das autoridades para coibir estas açõ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idados que podem ser tomados pelos usuários:</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ão abrir arquivos anexados quando desconhecidos ou dúvidosa sua procedencia,</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ão clicar em links para endereços da Internet, mesmo que conste o nome da empresa ou instituição,</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 caso de dúvidas sobre a origem e veracidade de determinada mensagem, procurar excluir o e-mail evitando executar seus anexos ou acessar os links presentes em seu conteúdo,</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 casos de contaminação por vírus ou outro código malicioso, reformatar a máquina, reinstalar totalmente o sistema operacional e os aplicativos, evitando restaurar backups antigos,</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tilizar softwares de proteção (antivirus, anti-spam, anti-spyware e firewall pessoal) nos computadores de uso doméstico e corporativo, mantendo-se com as versões, assinaturas e configurações atualizadas,</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ão emprestar sua senha de e-mail, de internet, de rede da empresa,</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uvidar do perfil de pessoas que se comunicam em ambientes não seguros e anônimos,</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nunciar na delegacia crimes eletrônicos, bem como em sites especializados, como o </a:t>
            </a:r>
            <a:r>
              <a:rPr b="0" lang="es-ES" sz="1500" spc="-1" strike="noStrike" u="sng">
                <a:solidFill>
                  <a:srgbClr val="990033"/>
                </a:solidFill>
                <a:uFillTx/>
                <a:latin typeface="Arial"/>
                <a:hlinkClick r:id="rId1"/>
              </a:rPr>
              <a:t>www.denunciar.org.b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 provas periciais embora não exista hierarquia de provas no direito brasileiro acabam por representar o tipo de prova mais importante ou com valor maior, já que são feitas por especialistas descompromissados com as questões discutidas e que apresentam posicionamento su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m computador invadido por meio de qualquer tipo de fraude pode ser utilizado para:</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r o computador em alguma atividade ilícita, para esconder sua real identidade e localização do invasor,</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r o computador para lançar ataques contra outros computadore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r seu disco rígido como repositório de dado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truir informações (vandalism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seminar mensagens alarmantes e falsa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r e enviar </a:t>
            </a:r>
            <a:r>
              <a:rPr b="0" i="1" lang="es-ES" sz="1800" spc="-1" strike="noStrike">
                <a:solidFill>
                  <a:srgbClr val="000000"/>
                </a:solidFill>
                <a:latin typeface="Arial"/>
              </a:rPr>
              <a:t>e-mails</a:t>
            </a:r>
            <a:r>
              <a:rPr b="0" lang="es-ES" sz="1800" spc="-1" strike="noStrike">
                <a:solidFill>
                  <a:srgbClr val="000000"/>
                </a:solidFill>
                <a:latin typeface="Arial"/>
              </a:rPr>
              <a:t> em seu nome,</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agar vírus de computador,</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rtar números de cartões de crédito e senhas bancária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rtar a senha da conta de seu provedor, para a internet se passando pelo usuári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rtar dados do computador, como por exemplo, informações do imposto de re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RT-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m a internet os ataques, agressões, vandalismo e até crimes não são presenciáveis por testemunhas humanas. As únicas testemunhas são as máquina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ma agressão ou ataque está em curso e a vítima tem condições de se defender é perfeitamente normal que ela o faça, é o que se chama a legitima defes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m uma ambiente virtual surgem algumas dúvidas, com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Como faço a legítima defesa na internet?</a:t>
            </a:r>
            <a:endParaRPr b="0" lang="en-US" sz="2200" spc="-1" strike="noStrike">
              <a:solidFill>
                <a:srgbClr val="000000"/>
              </a:solidFill>
              <a:latin typeface="Arial"/>
            </a:endParaRPr>
          </a:p>
          <a:p>
            <a:pPr marL="343080" indent="-343080">
              <a:lnSpc>
                <a:spcPct val="90000"/>
              </a:lnSpc>
              <a:spcBef>
                <a:spcPts val="55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é onde posso avançar com a defesa sem que se torne uma agressão?</a:t>
            </a:r>
            <a:endParaRPr b="0" lang="en-US" sz="2200" spc="-1" strike="noStrike">
              <a:solidFill>
                <a:srgbClr val="000000"/>
              </a:solidFill>
              <a:latin typeface="Arial"/>
            </a:endParaRPr>
          </a:p>
          <a:p>
            <a:pPr marL="343080" indent="-343080">
              <a:lnSpc>
                <a:spcPct val="90000"/>
              </a:lnSpc>
              <a:spcBef>
                <a:spcPts val="55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é onde posso avançar para descobrir a identidade do infrator para posteriormente buscar as autoridades competent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versas empresas já possuem funcionários especializados em coibir ataques na intern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s funcionários monitoram seu ambiente virtual para defender o sistema, site, rede, e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ataques podem vir de outros funcionários da empresa ou de pessoas extern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forma de trabalho é o que se convencionou chamar de “Ethical Hacking”, que encontra algumas limitações no direito brasileiro, já que tais atitudes se de qualquer forma ultrapassarem os limites éticos e legais da legitima defesa são interpretados como crimes ou infraçõ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ndo há um ataque, busca-s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loquear ou minimizar o ataque ou a vulnerabilida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cobrir a identidade do infrator,</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letar provas que possam ser utilizadas para responsabilização do infrator,</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medidas para normalizar a situação, para que volte a ser como era no momento anterior ao incid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ve-se no entanto fazer estas provas utilizando técnicas da perícia eletrônicas para que os dados obtidos não sejam inutilizados por terem sido obtidos de forma ileg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ito Legítima Def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 23, Código Pe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ão há crime quando o agente pratica o fa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 em estado de necessida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I – em legítima def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II – em estrito cumprimento de dever legal ou no exercício regular de dire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gras para a legitima defes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25 do Código Pe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ende-se em legítima defesa quem, usando moderadamente dos meios necessários, repele injusta agressão, atual e iminente, a direito seu ou de outr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cessário observar o princípio da proporcionalidade, já que a lei exige moderaçã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contratos de “Ethical Hacking” devem conter cláusulas que determinem quais os limites de ações e responsabilidades, para que se evite o risco de contingências leg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que exista responsabilidade civil entre os atos praticados e as consequências advindas é necessário a existência de nexo de causalidade entre o ato e o dano, ou seja, é necessário que exista qualquer elemento que de fato ligue o ato praticado ao dano subsequ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ilidades dos profissionais de 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sponsabilidade pelo bom funcionamento do Siste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sponsabilidade pelos danos decorrentes por culpa (ação ou omissão, negligência, imperícia e imprudência) em sua ativid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sponsabilidade da empresa ou instituição com direito de regresso contra o colaborador (pode ser demitido por justa causa CLT 48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mpre integrar os sistemas com os aspectos legais de forma a evitar responsabilizações futur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21, CP - </a:t>
            </a:r>
            <a:r>
              <a:rPr b="1" lang="es-ES" sz="2400" spc="-1" strike="noStrike">
                <a:solidFill>
                  <a:srgbClr val="000000"/>
                </a:solidFill>
                <a:latin typeface="Arial"/>
              </a:rPr>
              <a:t>O desconhecimento da lei é inescusável</a:t>
            </a:r>
            <a:r>
              <a:rPr b="0" lang="es-ES" sz="2400" spc="-1" strike="noStrike">
                <a:solidFill>
                  <a:srgbClr val="000000"/>
                </a:solidFill>
                <a:latin typeface="Arial"/>
              </a:rPr>
              <a:t>. O erro sobre a ilicitude do fato, se inevitável, isenta de pena; se evitável, poderá diminuí-la de um sexto a um terç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ágrafo único - Considera-se evitável o erro se o agente atua ou se omite sem a consciência da ilicitude do fato, quando lhe era possível, nas circunstâncias, ter ou atingir essa consciênc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86, CC - Aquele que, por ação ou omissão voluntária, negligência ou imprudência, violar direito e causar dano a outrem, ainda que exclusivamente moral, comete ato ilíc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87, CC - Também comete ato ilícito o titular de um direito que, ao exercê-lo, excede manifestamente os limites impostos pelo seu fim econômico ou social, pela boa-fé ou pelos bons costum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927, CC - Aquele que, por ato ilícito (arts. 186 e 187), causar dano a outrem, fica obrigado a repará-l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ágrafo único. Haverá obrigação de reparar o dano, independentemente de culpa, nos casos especificados em lei, ou quando a atividade normalmente desenvolvida pelo autor do dano implicar, por sua natureza, risco para os direitos de outr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realização de perícia digital alguns dos aspectos que podem ou merecem ser analisados sã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vos de log: registram as atividades dos usuários, dos processos e do sistema, as conexões de rede, as atividades da rede e informações específicas dos aplicativos e dos serviço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aços não utilizados no dispositivo de armazenagem: podem conter indícios que o usuário tentou apagar;</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vos temporários: alguns programas criam arquivos temporários que são apagados após o encerramento da sessão, podem conter indícios dos programas execu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itos Autora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ar formas de assegurar os direitos autorais empresariais ou individua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mplo: Informações acerca da autoria no rodapé, monitorar a marca e conteúdos, criptografia dos dado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va Digit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l o valor probante da perícia digit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segurar a guarda das provas eletrôn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r tecnologias e inovações como a Certificação Digital, Tabelião, Monitoramento (Testemunhas Virtuais), Guarda do Código Fo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rritorialida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segurar a hospedagem, registro, etc., no melhor local para garantia de direitos autor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segurar que a legislação do país em que se encontra seja integralmente cumpri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tratados internacionais sobre a virtualidade e direitos que quer assegurar. Cumprir os protocolos de forma a se resguard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rente de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ilidade solidária por culpa no exercício de suas funçõ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1016, CC - Os administradores respondem solidariamente perante a sociedade e os terceiros prejudicados, </a:t>
            </a:r>
            <a:r>
              <a:rPr b="1" lang="es-ES" sz="2400" spc="-1" strike="noStrike">
                <a:solidFill>
                  <a:srgbClr val="000000"/>
                </a:solidFill>
                <a:latin typeface="Arial"/>
              </a:rPr>
              <a:t>por culpa no desempenho de suas funçõ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5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ponsabilidades dos Profissionais de TI:</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gurança da Informação e o Usuári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onitoramento e a Privacida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Responsabilidade por atividades realizadas em equipamentos da empre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imites de responsabilidade em ambientes extern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essos remotos, home office, out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ecessidade da guarda da prov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Gestão de contratos com cláusulas específicas para blindagem legal (especialmente os de terceirizaçã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onsabilidade pelo conteúdos (veracidade, limites de responsabilidade dos provedores, donos de websites, produtoras, usuários de e-mail)</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onsabilidade editorial do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vençã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envolvimento de Políticas Eletrônicas da Empresa com definição clara dos limites de uso da tecnologia (Email, Intranet, Extranet, Intern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ro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ção clara da política de Geração de Evidências e Provas digitais captação, armazenagem e uso dos dados para fins lega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itoramen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aboração de um Plano de Contingência e Continuidade Legal para Resposta a Crise Digit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e Dilligence Digital – análise transversal das 3 principais interfaces de usuários dos dados através dos meios eletrônic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NCIONÁRIO, FORNECEDOR, CL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Ética em TI</a:t>
            </a:r>
            <a:endParaRPr b="0" lang="en-US" sz="4200" spc="-1" strike="noStrike">
              <a:solidFill>
                <a:srgbClr val="330033"/>
              </a:solidFill>
              <a:latin typeface="Times New Roman"/>
            </a:endParaRPr>
          </a:p>
        </p:txBody>
      </p:sp>
      <p:sp>
        <p:nvSpPr>
          <p:cNvPr id="2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ral: Conjunto de regras que estabelecem limites de comportamento, diferente de ação específica, mas até onde é aceitável ou não. Senso comum. Quando se ultrapassa o limite do senso comum haveria puniçã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Ética: Conjunto de crenças sobre certo e errado. Nasce no âmbito familiar e se estende para as relaçõ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Ética em TI</a:t>
            </a:r>
            <a:endParaRPr b="0" lang="en-US" sz="4200" spc="-1" strike="noStrike">
              <a:solidFill>
                <a:srgbClr val="330033"/>
              </a:solidFill>
              <a:latin typeface="Times New Roman"/>
            </a:endParaRPr>
          </a:p>
        </p:txBody>
      </p:sp>
      <p:sp>
        <p:nvSpPr>
          <p:cNvPr id="2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ndo Digital – novas fronteiras, novas necessidades, exemplo, “não abrir e-mails de estranho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vos questionamen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dade de expressão </a:t>
            </a:r>
            <a:r>
              <a:rPr b="0" lang="es-ES" sz="2400" spc="-1" strike="noStrike">
                <a:solidFill>
                  <a:srgbClr val="000000"/>
                </a:solidFill>
                <a:latin typeface="Arial"/>
                <a:ea typeface="Arial"/>
              </a:rPr>
              <a:t># direito de ofen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so de avatá ou apelido não importa em anonimato (situação proibida pela Constituição Fede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irataria = Fur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so indevido de imagens – danos que nem sempre podem ser repar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Ética em TI</a:t>
            </a:r>
            <a:endParaRPr b="0" lang="en-US" sz="4200" spc="-1" strike="noStrike">
              <a:solidFill>
                <a:srgbClr val="330033"/>
              </a:solidFill>
              <a:latin typeface="Times New Roman"/>
            </a:endParaRPr>
          </a:p>
        </p:txBody>
      </p:sp>
      <p:sp>
        <p:nvSpPr>
          <p:cNvPr id="25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overnança em TI – aplicar principios como a transparência, confidencialidade, acessibilidade, integridade às informaçõ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iar códigos de ética em TI – abranger funcionários, colaboradores, fornecedores e terceiro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s equipes de TI o código de ética deve prever situações com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do acesso privilegiado à informaçõ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de senh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das proteções existent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gras próprias para reger suas atuaçõ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sinatura de confidencialidade sobre as informações a que tiver acess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o de cessão das atividades desenvolv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de Swap: área utilizada pelo gerenciador de memória do sistema operacional, como uma grande área de armazenamento temporário, permitindo que processos sejam momentaneamente descarregados da memória principal, liberando espaço para execução de outro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or de BOOT: informações dos programas carregados quando o computador é inicializado, caso tais informações sejam modificadas é possível carregar quaisquer programas durante a inicialização do computad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mória: armazena informações voláteis,por exemplo, processos que estão em execução, dados que estão sendo manipulados e ainda não foram salvo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féricos: contém memórias que podem ser acessadas e salvas, podem ser implantados no computador no sistema operacional, possibilitando a execução da infraçã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ento de processos: cada processo se executa em um ambiente com privilégios específicos que determinam quais recursos do sistema, programas e arquivos de dados podem ser acessados, e de que modo. Um invasor pode alterar a execução dos programas e destruí-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5:43:07Z</dcterms:created>
  <dc:creator>Carol</dc:creator>
  <dc:description/>
  <dc:language>en-US</dc:language>
  <cp:lastModifiedBy>max3</cp:lastModifiedBy>
  <dcterms:modified xsi:type="dcterms:W3CDTF">2016-04-04T20:13:13Z</dcterms:modified>
  <cp:revision>7</cp:revision>
  <dc:subject/>
  <dc:title>Apostila 2º Bimestre Direito e Legislação em Informática</dc:title>
</cp:coreProperties>
</file>